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</p:sldIdLst>
  <p:sldSz cx="9907588" cy="6858000"/>
  <p:notesSz cx="9947275" cy="6811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1A9D-FB8B-4739-A002-6D372F708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6206-F160-4AEB-9DB3-A51B09BF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661EB-24EF-42A9-9A43-A33FE538D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266752-9F3D-4CBF-8D71-19FDA781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F3AAF5-5BCC-462C-A6AA-F4FA940C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DF135A-2AD5-41F8-AFFE-F87FDC06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43BC4A-BA05-4AC7-8807-2088C147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EC4C1A-07F5-430C-B719-0D268A68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34DEF-4316-4EE8-AC05-FD7A7802E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597260-3182-47E8-8DE4-4F6E3C04F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33420-352E-4219-B714-83285BB0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1E16C-41D5-4AA5-888F-2CA5898ED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33A0-B83A-4833-A8C6-850E9583F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686E7-ED3E-49D7-8D21-730041E3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D8BD7-404F-407F-B62C-EC18A7F26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B6D7E-B6D8-42DB-9C11-CE8D0D5F8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32BA8-6A77-4EAC-B072-3D87AA16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54D074-E2E0-42A4-B448-7BCAF204E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8F91C-8738-4C08-948F-9999E511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2E487C-FF28-4A45-ACA3-5461D802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E0E55-ACB9-45ED-896B-45893D93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B7F3D-CBCA-49C6-9BB8-04084AFF6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439E2-34B9-4C3C-95CA-086F9518D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F75-8873-451B-9204-0AB7EA62B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5A5B04-046B-4F2A-B147-E3DA2E81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9B9C4-51AA-43A3-B5B8-C41307F1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543363-9419-4F5A-A689-ED2E5CCCC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1338D0-7678-44E8-81F3-B24FC3CD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DC9CCB-AEB1-4266-BD08-14D74365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14B5EF-E460-421C-B846-17BD7657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CEF01-D6B4-4B7F-B2D8-D784855F2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82285-3776-4189-B244-3617B809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85093B-604F-4131-A2CD-8937AA9A6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4FC40-103A-4CF6-829D-3616244D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F5CE-8C60-459A-8929-74834B58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F1FDE-FD1F-4DC3-B037-BC4524FEB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E4562-BE0C-41E5-A115-F2F6E0FE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31D03-58DF-4B77-8738-1C089C8E2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05B57B-AC31-49A9-8137-11CB4CC43AF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DC3CDE-6ADC-4B0A-B2DA-E06DB85BB34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4BFFE4-2DBC-4164-9D1C-B8124CB4F58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24DD78-482F-4F30-8E1A-A36822146B40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455467-0BAA-47DD-BF9C-4A87B9693E8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29816C-628F-47F7-9789-EE7AD85153A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E1F247-7C3F-4C4C-B1CD-F04F585D5F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F21F7-D513-41F8-99B8-BC28E2432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6BF33E-8C71-461E-9C77-73A9A2BD6D7D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D9EEA0-65E3-42FA-BFEF-64E688A4ED07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F783B5-D352-4641-AB6A-33AAF26AE48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C5B13F-B808-4C5E-B41D-9AE3DF16DD8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B1E2C3-5C47-48A3-B25C-1EE9545E1C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53B6-21BD-4221-8B3F-48FFD5F0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09A37-299E-48F5-97C2-5E7322D8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A3A10-7DD4-4447-9744-E8BD0C193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4122-31AF-4CC2-8FB6-9D8F1082A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3E7B-5542-416B-8881-9D1EB4C6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6624-59DA-429C-BE68-2D7BB139B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933DC-A9A8-401A-BC89-089240F3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E73B-89A3-4A20-8833-5142E140B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5E487-C35F-426E-868D-88E889756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3A35-6069-4479-934C-201C11D61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9BF5-3AA5-4233-89CA-FB338CE2E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161EA-7472-4614-8EE2-280EA2DC7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B6A1F-96D3-4643-ADB3-47C9413C6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51DBD-4B9F-426B-B58C-6ED02F03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3220F4-181B-45FD-9369-F116A248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D2181-454B-4B94-BE5B-BEC64AD2B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E545-AD27-4461-9970-A7D8C0733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ECFBB-94A9-4489-9DC2-B5B8E00BC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D1C50-F1C6-40DE-B95A-8D95F7B72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AC637-3D8C-407B-B325-293E07A7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6CE2A-FF2F-4A2F-94B3-906339F2F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D0974-3B82-4A9F-BE0D-2B4602835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44E68-7345-4FA6-90DE-0892FC264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EC722-287E-4705-8EA9-7EB9214C9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618C9-BDE5-42F8-9B7E-0DD18379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EEC7E-6C81-4FC9-B647-BFE39F41F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2A320-30AC-4C89-8711-4D27D45C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85EE-A0F2-4F42-BEC2-15359871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EA601-478A-4AB3-8666-67A27987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255B5-8476-4C84-A905-94633B54A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471EE-C837-491D-8BE1-5A604288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35FC0-B044-4481-9EDE-9BA96A0A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7696D-209F-443D-8358-0EED1926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28AFE-CC78-46DF-876F-F87BAF75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05E27-FDF2-4B64-9FC4-312DE8E3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552601-3A9A-44ED-8B1F-7156E450D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88926-F463-4461-8580-216FD6CE0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C3DCA-EB3F-49DA-B1C9-6A0CCD5A1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D79-8561-4DBB-8109-ED9C33E0D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E4925-2A00-4727-B946-30AC2A59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7E05A-EFCC-4EEE-8205-7E04A758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62878-4806-46FA-965F-E9DAB4D91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2DC13-A28E-4CEC-8776-9D46FF57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7F715-EB7E-4AB9-90D1-FA54DD407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509A5-D9B4-4847-9849-6B2F54B9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C785D-F910-4480-8DA8-812480AC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35A1F-874B-47F3-AE9A-AC95F403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B0AF5-FCC2-40C1-B5D4-C1134B9F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80638-A448-465C-BC63-A2F2E1C2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EB6-2DC8-41F6-9906-86B78EF02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553DB-3560-40F7-B51A-B35A3AE4F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EAE799-88F6-4DC8-970B-2131F388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AC74A-1768-4F09-97F0-82303CBF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74E3C-6FDA-46DF-A089-A8D8051C7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99888-A96A-485E-B2BC-D560F688C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E3EAA-D6B4-449D-8D15-4EBA63BA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3A48A8-2D77-478C-9FC9-05F6CDF7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166DF-4AA6-4DF4-BA2D-9E2812EE0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B6779-2CF4-4A54-A5DE-7023DA68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A17FB-088A-4BBC-B97A-BA7463D6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EC37-477B-4B71-8530-411A9767D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79E4CA-C1B6-4032-8995-D55D99FF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2B0132-FC91-4ED6-AE99-2AA14C2C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CBD6CE-B2EB-4608-8A12-2009A9EC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0C070-B346-456D-8178-13F89A62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B8096-D1FF-4D0B-8DE0-0AB3C75F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099C4-6C91-4222-92B0-354DC35F5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33C26-C925-4141-9000-AD5EEE75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5C77B7-7413-4D01-8725-0F0FEAEDB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B5088-A338-42CF-8F8F-2C288E8F7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A019E-455C-44B8-A3C6-7F080275F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55F8-BE2E-460F-88A6-931E4B571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E53426-FEA0-458B-BC22-E8FC6563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E65805-9D3D-4196-8319-45BAA4F0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70335-7028-427B-9919-D6CE098A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0178D-CCE0-47FB-B65A-C911A73C5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4CE32E-EDB6-46BC-BF7A-CA8630702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1258D6-0BDF-45C8-9992-B68E9D4DD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85102-2EBC-4A76-B98B-2D473F8C1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771242-1759-4015-AF36-AEC1D9C9D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34BB09-9FBA-4561-BFD7-F5492A69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A7576-35C2-4466-9CC1-EA797AD9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D792-99C6-46A9-A31D-834EA25CD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42901A-FEDD-46D4-ADB8-F3BFBB31D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D6D6BC-C7D0-44CC-A7E1-C2D9E3E6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D51506-E525-43AB-834E-7C7FB233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C3112-68CE-49A4-A74D-C7285C9D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B39E8-0FF7-4BDD-A336-F4823CF8F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F1BD4-C10D-4137-887D-75B7E4340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B5B2EA-11C0-4CDD-A6F4-036D4A1E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824E79-AE8B-4671-A9A7-1CB73D7ED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168D5D-4815-4DAD-9B27-87C129F71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2A8A54-103C-49E2-8FA2-AE0F7F881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5FE9B-12E1-4C45-85EB-46739C53359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695B8-8C8C-4B7E-A0B8-4E8B9E3E3C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5568F-6826-41ED-B5BE-EC0542CEB8F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CE70A-CC27-43BE-A6BD-A08D72C7E0B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F185-8FFA-4F6F-8C29-D7BC6096E95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44B0-BDC7-430E-84BC-D1164AB6D7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3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8C43-A2E6-43FD-8950-6D32CD38D6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F59B-1EB8-489F-9D38-D130A307EE9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E170-6BC1-47B5-8C11-9BA15A82017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72A5-7F32-4E12-9757-78411E231E7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AE03-1C2A-491E-93D9-E5CFA76862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390A8-A34F-4149-A22E-AE6ADA584E5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D90A2-ADAA-47A3-94CC-C521A3B36B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88C2-FAD6-49BB-BAFB-EC10DCED96E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ECEB6-EEA8-4071-9D7E-4E302D7032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F99EE-AE7C-4167-9B3D-1BB7E40E7A9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CCB3-BBCA-47D1-916B-BF7D695ADE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BD62-5F57-4129-9ACA-573F544D6D2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67B6-BE99-44A5-B603-E02C182ED9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B415-3268-4F0E-AAF8-DFF516A1FDC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5353E-4ECA-4849-9C55-63B6E641A6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5905-20AA-4D44-957E-45A1D0CE91A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2A0F3-86F3-48D3-8D34-EBA2C746CA1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Номер слайда 1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6C637-67C2-4D71-933F-E9CC9CDA70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Прямоугольник 4"/>
          <p:cNvSpPr/>
          <p:nvPr/>
        </p:nvSpPr>
        <p:spPr>
          <a:xfrm>
            <a:off x="982800" y="1758960"/>
            <a:ext cx="803592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Об оказании материальной помощи обучающимс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98040" y="-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libri"/>
              </a:rPr>
              <a:t>Учреждение образования «Гродненский государственный университет имени Янки Купал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TextBox 2"/>
          <p:cNvSpPr/>
          <p:nvPr/>
        </p:nvSpPr>
        <p:spPr>
          <a:xfrm>
            <a:off x="2602080" y="5543640"/>
            <a:ext cx="713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атериалы ЕДИ», май 2021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лено управлением воспитательной работы с молодёж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О «Гродненский государственный университет имени Янки Купал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85720" y="-36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ы, регулирующие оказание материальной помощи обучающимс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Номер слайда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4CE4-6C40-4FF4-9F92-F64C72F3C0F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Схема 4" descr=""/>
          <p:cNvPicPr/>
          <p:nvPr/>
        </p:nvPicPr>
        <p:blipFill>
          <a:blip r:embed="rId1"/>
          <a:stretch/>
        </p:blipFill>
        <p:spPr>
          <a:xfrm>
            <a:off x="1536840" y="1195560"/>
            <a:ext cx="8319960" cy="51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4"/>
          <p:cNvSpPr/>
          <p:nvPr/>
        </p:nvSpPr>
        <p:spPr>
          <a:xfrm>
            <a:off x="5965920" y="76320"/>
            <a:ext cx="364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атериальная помощь может быть оказа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Схема 4" descr=""/>
          <p:cNvPicPr/>
          <p:nvPr/>
        </p:nvPicPr>
        <p:blipFill>
          <a:blip r:embed="rId1"/>
          <a:stretch/>
        </p:blipFill>
        <p:spPr>
          <a:xfrm>
            <a:off x="4986360" y="878040"/>
            <a:ext cx="4786200" cy="27860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59" descr="Презентации школьников"/>
          <p:cNvPicPr/>
          <p:nvPr/>
        </p:nvPicPr>
        <p:blipFill>
          <a:blip r:embed="rId2"/>
          <a:srcRect l="0" t="14088" r="0" b="14641"/>
          <a:stretch/>
        </p:blipFill>
        <p:spPr>
          <a:xfrm>
            <a:off x="1606680" y="492120"/>
            <a:ext cx="3514680" cy="2505240"/>
          </a:xfrm>
          <a:prstGeom prst="rect">
            <a:avLst/>
          </a:prstGeom>
          <a:ln w="0">
            <a:noFill/>
          </a:ln>
        </p:spPr>
      </p:pic>
      <p:sp>
        <p:nvSpPr>
          <p:cNvPr id="500" name="Rectangle 4"/>
          <p:cNvSpPr/>
          <p:nvPr/>
        </p:nvSpPr>
        <p:spPr>
          <a:xfrm>
            <a:off x="1266840" y="3095640"/>
            <a:ext cx="364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Фонд материальной помощи формируется из следующих источник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Схема 3" descr=""/>
          <p:cNvPicPr/>
          <p:nvPr/>
        </p:nvPicPr>
        <p:blipFill>
          <a:blip r:embed="rId3"/>
          <a:stretch/>
        </p:blipFill>
        <p:spPr>
          <a:xfrm>
            <a:off x="1517760" y="4286160"/>
            <a:ext cx="4157640" cy="254808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61" descr="человечки для презентаций на прозрачном фоне: 18 тыс изображений найде |  человечки | Постила"/>
          <p:cNvPicPr/>
          <p:nvPr/>
        </p:nvPicPr>
        <p:blipFill>
          <a:blip r:embed="rId4"/>
          <a:stretch/>
        </p:blipFill>
        <p:spPr>
          <a:xfrm>
            <a:off x="5330880" y="3579840"/>
            <a:ext cx="342252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8"/>
          <p:cNvSpPr/>
          <p:nvPr/>
        </p:nvSpPr>
        <p:spPr>
          <a:xfrm>
            <a:off x="647640" y="0"/>
            <a:ext cx="92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ловия оказания материальной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91"/>
          <p:cNvSpPr/>
          <p:nvPr/>
        </p:nvSpPr>
        <p:spPr>
          <a:xfrm>
            <a:off x="0" y="5819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1533600" y="523800"/>
          <a:ext cx="8372520" cy="5453280"/>
        </p:xfrm>
        <a:graphic>
          <a:graphicData uri="http://schemas.openxmlformats.org/drawingml/2006/table">
            <a:tbl>
              <a:tblPr/>
              <a:tblGrid>
                <a:gridCol w="3638520"/>
                <a:gridCol w="1790640"/>
                <a:gridCol w="2943360"/>
              </a:tblGrid>
              <a:tr h="91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нования для оказания материальной помо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змер материальной помощ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речень докумен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2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Вступление в первый брак (если обратились за мат. помощью в течении 12 месяцев с даты регистрации бра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до 2 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личное заявление обучающегос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копия свидетельства о заключении бра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5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Рождение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(если обратились за мат. помощью в течении 12 месяцев с даты рождения ребенк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до 6 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личное заявление обучающегос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копия свидетельства о рождении ребенк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9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Санаторно-курортн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до </a:t>
                      </a: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 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личное заявление обучающегос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копия путевк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2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Сложные и чрезвычайные обстоятельства (пожар, кража и т.д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до 10 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личное заявление обучающегос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документы, подтверждающие наличие чрезвычайных обстоятельст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7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Тяжелое материальное поло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до 1 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личное заявление обучающегос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справка о составе семь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иные документы по усмотрению заявител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506" name="Picture 107" descr=""/>
          <p:cNvPicPr/>
          <p:nvPr/>
        </p:nvPicPr>
        <p:blipFill>
          <a:blip r:embed="rId1"/>
          <a:srcRect l="15657" t="27327" r="13418" b="24001"/>
          <a:stretch/>
        </p:blipFill>
        <p:spPr>
          <a:xfrm>
            <a:off x="318960" y="1374840"/>
            <a:ext cx="1471680" cy="67608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108" descr=""/>
          <p:cNvPicPr/>
          <p:nvPr/>
        </p:nvPicPr>
        <p:blipFill>
          <a:blip r:embed="rId2"/>
          <a:srcRect l="0" t="48058" r="62712" b="0"/>
          <a:stretch/>
        </p:blipFill>
        <p:spPr>
          <a:xfrm>
            <a:off x="4805280" y="2241720"/>
            <a:ext cx="1230480" cy="12855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109" descr=""/>
          <p:cNvPicPr/>
          <p:nvPr/>
        </p:nvPicPr>
        <p:blipFill>
          <a:blip r:embed="rId3"/>
          <a:stretch/>
        </p:blipFill>
        <p:spPr>
          <a:xfrm>
            <a:off x="647640" y="3252960"/>
            <a:ext cx="95904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Номер слайда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35E91-784C-4013-A711-F951B4EF0E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486080" y="861840"/>
          <a:ext cx="8420040" cy="5975640"/>
        </p:xfrm>
        <a:graphic>
          <a:graphicData uri="http://schemas.openxmlformats.org/drawingml/2006/table">
            <a:tbl>
              <a:tblPr/>
              <a:tblGrid>
                <a:gridCol w="3904920"/>
                <a:gridCol w="1562400"/>
                <a:gridCol w="295272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нования для оказания материальн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змер материальн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речень докум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Болезн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Тяжелая болезнь (тяжелое (хроническое) заболевание (травма)); в случае длительного стационарного лечения (более 14 дней) или дорогостоящего амбулаторного лечения при наличии медицинского заклю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до 2 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до 3 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личное заявление обучающегося, копия справки о временной нетрудоспособности, больничного листа (за исключением больничного листа по беременности и родам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личное заявление обучающегося или его законного представител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копия справки по болезни, больничного листа (за исключением больничного листа по беременности и родам). Копия выписки из стациона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25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Смерть близких членов семьи (родители, супруги, дет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Иные трагические обстоятельства, в том числе с летальным исходом обучающегос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до 5 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до 20 Б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личное заявление обучающегос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копия свидетельства о смер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оказывается родственникам по решению Комисс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Иные случа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по решению Комисс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личное заявление обучающегос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иные документы по усмотрению заявител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11" name="Rectangle 8"/>
          <p:cNvSpPr/>
          <p:nvPr/>
        </p:nvSpPr>
        <p:spPr>
          <a:xfrm>
            <a:off x="647640" y="142920"/>
            <a:ext cx="92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ловия оказания материальной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109" descr="Смайлик больной с хромающей иллюстрацией персонажа палки | Премиум векторы"/>
          <p:cNvPicPr/>
          <p:nvPr/>
        </p:nvPicPr>
        <p:blipFill>
          <a:blip r:embed="rId1"/>
          <a:srcRect l="16864" t="14937" r="10466" b="17094"/>
          <a:stretch/>
        </p:blipFill>
        <p:spPr>
          <a:xfrm>
            <a:off x="3676680" y="1665360"/>
            <a:ext cx="1600200" cy="149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8"/>
          <p:cNvSpPr/>
          <p:nvPr/>
        </p:nvSpPr>
        <p:spPr>
          <a:xfrm>
            <a:off x="666720" y="-28440"/>
            <a:ext cx="92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ловия оказания материальной помощ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1362240" y="609480"/>
          <a:ext cx="8420040" cy="6069240"/>
        </p:xfrm>
        <a:graphic>
          <a:graphicData uri="http://schemas.openxmlformats.org/drawingml/2006/table">
            <a:tbl>
              <a:tblPr/>
              <a:tblGrid>
                <a:gridCol w="3904920"/>
                <a:gridCol w="1562400"/>
                <a:gridCol w="2952720"/>
              </a:tblGrid>
              <a:tr h="828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Основания для оказания материальн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Размер материальной помощ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Перечень докум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116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-инвалиды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–3-ей групп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Б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е заявление обучающегос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ия свидетельства об инвалидности, заверенная секретарем комиссии при наличии оригиналов документ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152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, которые относятся к категории детей-сирот, детей, оставшихся без попечения родителей, а также лиц из числа детей сирот и детей, оставшихся без попечения родител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Б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е заявление обучающегос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ии документов, подтверждающих статус сироты, заверенные секретарем при наличии оригиналов документов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36656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случае прекращения выплат государственного обеспечения. В случае достижения 23-летнего возраста обучающегося, имевшего статус лица из числа детей сирот и детей, оставшихся без попечения родителей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Б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е заявление обучающегос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ии документов, подтверждающих статус сироты, заверенные секретарем Комиссии при наличии оригиналов документов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ия свидетельства о рождени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3832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еся из многодетной семь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1 БВ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е заявление обучающегос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ия свидетельства многодетной семьи (не менее трех несовершеннолетних детей)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равка о составе семьи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12960"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учающимся, которые имеют ребенка (при условии, что обучающийся не получает пособие по уходу за ребенком в возрасте до трех лет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 2 БВ на каждого ребенк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45360" rIns="453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чное заявление обучающегося;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пия свидетельства о рождении ребенка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Номер слайда 3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7EE85-0950-47F5-A1B8-9DF07A5B77B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8"/>
          <p:cNvSpPr/>
          <p:nvPr/>
        </p:nvSpPr>
        <p:spPr>
          <a:xfrm>
            <a:off x="666720" y="-28440"/>
            <a:ext cx="925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енежные выпл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8"/>
          <p:cNvSpPr/>
          <p:nvPr/>
        </p:nvSpPr>
        <p:spPr>
          <a:xfrm>
            <a:off x="647640" y="604800"/>
            <a:ext cx="925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2019/2020 учебном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Скругленный прямоугольник 7"/>
          <p:cNvSpPr/>
          <p:nvPr/>
        </p:nvSpPr>
        <p:spPr>
          <a:xfrm>
            <a:off x="1425600" y="1106640"/>
            <a:ext cx="3870360" cy="8222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ещение расходов по найму жилья иногородним студент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12" descr=""/>
          <p:cNvPicPr/>
          <p:nvPr/>
        </p:nvPicPr>
        <p:blipFill>
          <a:blip r:embed="rId1"/>
          <a:stretch/>
        </p:blipFill>
        <p:spPr>
          <a:xfrm>
            <a:off x="847800" y="2741760"/>
            <a:ext cx="2590560" cy="1582560"/>
          </a:xfrm>
          <a:prstGeom prst="rect">
            <a:avLst/>
          </a:prstGeom>
          <a:ln w="0">
            <a:noFill/>
          </a:ln>
        </p:spPr>
      </p:pic>
      <p:sp>
        <p:nvSpPr>
          <p:cNvPr id="520" name="Прямоугольник с двумя скругленными противолежащими углами 8"/>
          <p:cNvSpPr/>
          <p:nvPr/>
        </p:nvSpPr>
        <p:spPr>
          <a:xfrm>
            <a:off x="819000" y="1928880"/>
            <a:ext cx="2810160" cy="9856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01,3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л. р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с двумя скругленными противолежащими углами 10"/>
          <p:cNvSpPr/>
          <p:nvPr/>
        </p:nvSpPr>
        <p:spPr>
          <a:xfrm>
            <a:off x="3286080" y="3276720"/>
            <a:ext cx="3457800" cy="15714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душевой доход  семьи не должен превышать </a:t>
            </a:r>
            <a:r>
              <a:rPr b="1" lang="ru-RU" sz="16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200%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ьшей величины бюджета прожиточного минимума (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62,87  бел. руб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с двумя скругленными противолежащими углами 11"/>
          <p:cNvSpPr/>
          <p:nvPr/>
        </p:nvSpPr>
        <p:spPr>
          <a:xfrm>
            <a:off x="66600" y="4165560"/>
            <a:ext cx="3219480" cy="260676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личное заяв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справка о составе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документы о доход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справки о других членах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копия договора найма жилого помеще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иные докумен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Скругленный прямоугольник 12"/>
          <p:cNvSpPr/>
          <p:nvPr/>
        </p:nvSpPr>
        <p:spPr>
          <a:xfrm>
            <a:off x="5883120" y="1128600"/>
            <a:ext cx="3870360" cy="82080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ание материальной помо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с двумя скругленными противолежащими углами 13"/>
          <p:cNvSpPr/>
          <p:nvPr/>
        </p:nvSpPr>
        <p:spPr>
          <a:xfrm>
            <a:off x="6943680" y="1949400"/>
            <a:ext cx="2809800" cy="9860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47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458,8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ел. ру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Скругленный прямоугольник 14"/>
          <p:cNvSpPr/>
          <p:nvPr/>
        </p:nvSpPr>
        <p:spPr>
          <a:xfrm>
            <a:off x="5883120" y="4915080"/>
            <a:ext cx="3870360" cy="822240"/>
          </a:xfrm>
          <a:prstGeom prst="roundRect">
            <a:avLst>
              <a:gd name="adj" fmla="val 16667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лен срок оплаты за обучения около 23 обучающих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" descr="Картинки мульт выпускник, Стоковые Фотографии и Роялти-Фри Изображения  мульт выпускник | Depositphotos®"/>
          <p:cNvPicPr/>
          <p:nvPr/>
        </p:nvPicPr>
        <p:blipFill>
          <a:blip r:embed="rId2"/>
          <a:stretch/>
        </p:blipFill>
        <p:spPr>
          <a:xfrm>
            <a:off x="7711920" y="3114720"/>
            <a:ext cx="1730520" cy="1731960"/>
          </a:xfrm>
          <a:prstGeom prst="rect">
            <a:avLst/>
          </a:prstGeom>
          <a:ln w="0">
            <a:noFill/>
          </a:ln>
        </p:spPr>
      </p:pic>
      <p:grpSp>
        <p:nvGrpSpPr>
          <p:cNvPr id="527" name="Овал 16"/>
          <p:cNvGrpSpPr/>
          <p:nvPr/>
        </p:nvGrpSpPr>
        <p:grpSpPr>
          <a:xfrm>
            <a:off x="3876840" y="5095800"/>
            <a:ext cx="1334880" cy="1328760"/>
            <a:chOff x="3876840" y="5095800"/>
            <a:chExt cx="1334880" cy="1328760"/>
          </a:xfrm>
        </p:grpSpPr>
        <p:pic>
          <p:nvPicPr>
            <p:cNvPr id="528" name="Овал 16" descr=""/>
            <p:cNvPicPr/>
            <p:nvPr/>
          </p:nvPicPr>
          <p:blipFill>
            <a:blip r:embed="rId3"/>
            <a:stretch/>
          </p:blipFill>
          <p:spPr>
            <a:xfrm>
              <a:off x="3876840" y="5095800"/>
              <a:ext cx="133488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4111560" y="5303880"/>
              <a:ext cx="863640" cy="86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Номер слайда 1"/>
          <p:cNvSpPr/>
          <p:nvPr/>
        </p:nvSpPr>
        <p:spPr>
          <a:xfrm>
            <a:off x="709920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913C-DB59-4460-B481-106B2CCAD6A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Прямоугольник 4"/>
          <p:cNvSpPr/>
          <p:nvPr/>
        </p:nvSpPr>
        <p:spPr>
          <a:xfrm>
            <a:off x="1214280" y="2147760"/>
            <a:ext cx="759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9"/>
          <p:cNvSpPr/>
          <p:nvPr/>
        </p:nvSpPr>
        <p:spPr>
          <a:xfrm>
            <a:off x="571680" y="216000"/>
            <a:ext cx="900396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Calibri"/>
              </a:rPr>
              <a:t>Учреждение образования «Гродненский государственный университет имени Янки Купалы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8T16:24:37Z</dcterms:created>
  <dc:creator>A228-2</dc:creator>
  <dc:description/>
  <dc:language>en-US</dc:language>
  <cp:lastModifiedBy>User</cp:lastModifiedBy>
  <cp:lastPrinted>2014-09-26T10:38:33Z</cp:lastPrinted>
  <dcterms:modified xsi:type="dcterms:W3CDTF">2021-05-18T11:02:49Z</dcterms:modified>
  <cp:revision>980</cp:revision>
  <dc:subject/>
  <dc:title>Количество научных тем,  выполняемых структурными подразделениями</dc:title>
</cp:coreProperties>
</file>