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4D44-92B7-4F76-A332-FA347D764B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74AF-AD02-4A67-89D7-195F4068B3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CDD-99FA-4CBB-9532-660CC99B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CE4-BA29-44F8-8E2D-7D4F939B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CF3-53CE-4CD4-A2A0-87C10F27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74E-DF9B-4038-B5D3-17572812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6BE-ED0F-4301-847C-DF44D006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814-169F-4CEA-B4A7-327C248B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863-28A7-4F5F-92C7-2238B58C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9A0-E622-4F61-9F5D-EC6B3652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8FE-146A-40A9-92BE-BBF0723C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0F5-18D2-4D01-AD66-CE940D53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ABE-2D5A-48C7-BFB6-621CF00D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3F6-3C34-43B4-9CB6-3015A2FE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BD30-9683-4270-B5C7-80DC6D17D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-powerpoint-templates-design.com/free-powerpoint-templates-desig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3"/>
          <p:cNvSpPr/>
          <p:nvPr/>
        </p:nvSpPr>
        <p:spPr>
          <a:xfrm>
            <a:off x="4500720" y="385776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родненский областной ЦГЭО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5500800" y="571680"/>
            <a:ext cx="328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Ч-ИНФЕКЦИИ  НА   ПРОМЫШЛЕННЫХ            ПРЕДПРИЯТИ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>
            <a:hlinkClick r:id="rId1"/>
          </p:cNvPr>
          <p:cNvSpPr/>
          <p:nvPr/>
        </p:nvSpPr>
        <p:spPr>
          <a:xfrm>
            <a:off x="0" y="65977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Arial"/>
              </a:rPr>
              <a:t>ALLPPT.com _ Free PowerPoint Templates, Diagrams and Cha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2"/>
          <a:stretch/>
        </p:blipFill>
        <p:spPr>
          <a:xfrm>
            <a:off x="3921120" y="6130800"/>
            <a:ext cx="13017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ПРЕДОСТОРОЖНОСТ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499840" y="1285560"/>
            <a:ext cx="6643800" cy="4591080"/>
          </a:xfrm>
          <a:prstGeom prst="rect">
            <a:avLst/>
          </a:prstGeom>
          <a:noFill/>
          <a:ln w="0">
            <a:noFill/>
          </a:ln>
        </p:spPr>
        <p:txBody>
          <a:bodyPr lIns="396000" rIns="90000" tIns="46800" bIns="46800" anchor="t">
            <a:normAutofit fontScale="92000"/>
          </a:bodyPr>
          <a:p>
            <a:pPr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филактика травм и создание максимально безопасных условий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бывания            работников учреждении;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ры по безопасному использованию и правильному хранению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люще-режущих     предметов;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ение  работников приемам правильного оказания первой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мощи при травмах;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ведение обязательного правила при оказании первой помощи –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ксимально возможное исключение контакта с чужой кровью и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ругими биологическими жидкостями с             видимой примесью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рови путем обязательного использования резиновых (латексных)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чаток при оказании первой помощи. В случае отсутствия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чаток при оказании         первой помощи при травмах допускается использование подручного материала –                полиэтиленовых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кетов, непромокаемой ткани и т.п.;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мещение аптечек первой помощи в местах, удобных и доступных немедицинскому персоналу в любое время. В целях безопасности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юбые химические вещества,     находящиеся в аптечке, должны быть не доступны воспитанникам и обучающимся Аптечки первой помощи должны быть укомплектованы достаточным количеством     латексных              перчаток и дезинфицирующих средств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18" name="Рисунок 4" descr="https://slide-share.ru/slide/1423553.jpeg"/>
          <p:cNvPicPr/>
          <p:nvPr/>
        </p:nvPicPr>
        <p:blipFill>
          <a:blip r:embed="rId1"/>
          <a:stretch/>
        </p:blipFill>
        <p:spPr>
          <a:xfrm>
            <a:off x="0" y="1500120"/>
            <a:ext cx="271476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7572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ТЕЧКИ ДЛЯ ЭКСТРЕННОЙ ПРОФИЛАКТИКИ ВИЧ-ИНФЕКЦ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999880" y="1214280"/>
            <a:ext cx="5929560" cy="4662720"/>
          </a:xfrm>
          <a:prstGeom prst="rect">
            <a:avLst/>
          </a:prstGeom>
          <a:noFill/>
          <a:ln w="0">
            <a:noFill/>
          </a:ln>
        </p:spPr>
        <p:txBody>
          <a:bodyPr lIns="396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맑은 고딕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птечки первой помощи должны размещаться в местах, удобных и доступных  работникам в           любое время, в помещениях, где высок риск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равматизма: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птечки должны быть укомплектованы: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аточным количеством латексных перчаток;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% раствором йода;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% раствором перекиси водорода;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актерицидным лейкопластырем, бинтом,                   ватой;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ерильными марлевыми салфетками;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зинфицирующими средствам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21" name="Рисунок 4" descr="http://trpk.ru/content/bnimg/65/86943349.png"/>
          <p:cNvPicPr/>
          <p:nvPr/>
        </p:nvPicPr>
        <p:blipFill>
          <a:blip r:embed="rId1"/>
          <a:stretch/>
        </p:blipFill>
        <p:spPr>
          <a:xfrm>
            <a:off x="214200" y="1285920"/>
            <a:ext cx="285768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соблюдения универсальных               мер предосторож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5480" y="128556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lIns="396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варийными» ситуациями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 контексте профилактики заражения ВИЧ, вирусами гепатитов В и С называются ситуации контакта с кровью, например, при травмах – чаще всего при ушибах, порезах, носовых кровотечениях и т.д., если кровь травмированного человека попадает на кожные покровы или слизистые других людей. 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лучае возникновения «аварийной» ситуации необходимо отправить всех  работников, имевших контакт с кровью, к медицинскому работнику для оказания квалифицированной медицинской помощи и проведения профилактических мероприятий. 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</a:t>
            </a:r>
            <a:r>
              <a:rPr b="0" i="1" lang="ru-RU" sz="15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Алгоритм соблюдения универсальных мер предосторожности при оказании первой помощи включает в себя следующие основные моменты</a:t>
            </a:r>
            <a:r>
              <a:rPr b="0" lang="ru-RU" sz="15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ьзовать резиновые медицинские перчатки при проведении манипуляций по оказанию первой помощи, при которых возможен контакт с чужой кровью; 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ксимально сократить время контакта с чужой кровью путем немедленного промывания участка кожного покрова, на котором есть следы крови, проточной водой с мылом; 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ьзовать для дезинфекции антисептики (например, 2–4%-й раствор хлоргексидина глюконата); 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выдавливать кровь из ранок; 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тереть место контакта; 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использовать сильнодействующие средства, такие как йод, спирт и др.; 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оевременно проводить все профилактические мероприятия: чем быстрее, тем они эффективнее  (фактор времени) 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00040" y="500040"/>
          <a:ext cx="8043840" cy="5546880"/>
        </p:xfrm>
        <a:graphic>
          <a:graphicData uri="http://schemas.openxmlformats.org/drawingml/2006/table">
            <a:tbl>
              <a:tblPr/>
              <a:tblGrid>
                <a:gridCol w="3743280"/>
                <a:gridCol w="4300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«Аварийные» ситуации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Действия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В случае попадания чужой крови на слизистые оболочки глаз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ленно промыть глаз чистой проточной водой (или физиологическим раствором), используя любую подходящую емкость (бутыль, кувшин, графин и т.п.), следующим образом: посадить пострадавшего, запрокинуть ему голову, осторожно пальцами раздвинуть (оттянуть) веки и аккуратно лить на глаз воду (или физраствор) таким образом, чтобы вода (или физраствор) затекали под веки и свободно вытекали наружу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нимать контактные линзы во время промывания, так как они создают защитный барье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того как глаз промыли, контактные линзы необходимо снять и обработать обычным способом; после этого линзы совершенно безопасны для дальнейшего использо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чески запрещено: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вать глаза с мылом или дезинфицирующим раствором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57120" y="1071720"/>
          <a:ext cx="8229600" cy="4429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лучае попадания чужой крови на слизистые оболочки ротовой полости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ленно выплюнуть попавшую в рот жидкость!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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товую полость тщательно прополоскать чистой водой (или физраствором) и снова выплюнуть. Повторить полоскание несколько раз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чески запрещено: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для промывания полости рта мыло или дезинфицирующий раствор.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428760" y="928800"/>
          <a:ext cx="8358120" cy="5072040"/>
        </p:xfrm>
        <a:graphic>
          <a:graphicData uri="http://schemas.openxmlformats.org/drawingml/2006/table">
            <a:tbl>
              <a:tblPr/>
              <a:tblGrid>
                <a:gridCol w="3598560"/>
                <a:gridCol w="4759560"/>
              </a:tblGrid>
              <a:tr h="50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лучае попадания чужой крови на неповрежденную кожу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ленно промыть загрязненный участок кожи большим количеством проточной воды с использованием мыл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тсутствии проточной воды обработать загрязненный участок кожи гелем или раствором для мытья рук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промывания можно обработать кожу слабыми дезинфицирующими средствами, например 2–4%-м раствором хлоргексидина глюконат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чески запрещено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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сильнодействующие средства: спирт, отбеливающие жидкости и йод, так как они могут вызвать раздражение кож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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еть или скрести место контакт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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адывать повязку на место контак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85840" y="357120"/>
          <a:ext cx="8715240" cy="6311880"/>
        </p:xfrm>
        <a:graphic>
          <a:graphicData uri="http://schemas.openxmlformats.org/drawingml/2006/table">
            <a:tbl>
              <a:tblPr/>
              <a:tblGrid>
                <a:gridCol w="3786120"/>
                <a:gridCol w="492912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АВАРИЙНАЯ СИТУ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В случае попадания чужой крови на поврежденную кожу (ссадина, царапина, ранка, которые уже имелись ранее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Промыть место контакта большим количеством проточной воды с мылом.  При отсутствии проточной воды обработать загрязненный участок кожи гелем или раствором для мытья рук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Категорически запрещено: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использовать сильнодействующие средства</a:t>
                      </a:r>
                      <a:r>
                        <a:rPr b="1" i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맑은 고딕"/>
                        </a:rPr>
                        <a:t>: спирт и йод,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так как они могут вызвать раздражение раневой поверхности и ухудшить состояние ран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сдавливать или тереть поврежденное мест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отсасывать кровь из ранк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0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В случае попадания крови на одежду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Испачканную одежду необходимо снять, кожу под одеждой тщательно промыть проточной водой с мылом и обработать дезинфицирующими средствами для обработки рук. Испачканную одежду замочить в дезинфицирующем растворе (согласно прилагаемой инструкции по применению дезинфицирующих средств), далее стирать обычными моющими средствами, просушить и прогладить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Если есть необходимость хранения испачканной чужой кровью одежды, ее следует упаковать в плотный полиэтиленовый пакет и тщательно его завязать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Примечание Все манипуляции необходимо проводить в резиновых перчатках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После снятия перчаток руки вымыть проточной водой с мыл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68360" y="1571400"/>
            <a:ext cx="8229600" cy="4305240"/>
          </a:xfrm>
          <a:prstGeom prst="rect">
            <a:avLst/>
          </a:prstGeom>
          <a:noFill/>
          <a:ln w="0">
            <a:noFill/>
          </a:ln>
        </p:spPr>
        <p:txBody>
          <a:bodyPr lIns="396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АГОДАРЮ ЗА ВНИМАНИЕ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29" name="Рисунок 4" descr="Ð Ð°ÑÑÑÐ¾Ð²Ð°Ñ Ð¸ Ð²ÐµÐºÑÐ¾ÑÐ½Ð°Ñ Ð°Ð½Ð¸Ð¼Ð°ÑÐ¸Ñ - ÐÑÐµÐ·ÐµÐ½ÑÐ°ÑÐ¸Ñ 17100-36"/>
          <p:cNvPicPr/>
          <p:nvPr/>
        </p:nvPicPr>
        <p:blipFill>
          <a:blip r:embed="rId1"/>
          <a:stretch/>
        </p:blipFill>
        <p:spPr>
          <a:xfrm>
            <a:off x="857160" y="1201680"/>
            <a:ext cx="757260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Содержимое 3" descr="https://cf2.ppt-online.org/files2/slide/b/b8O1tKrvX59iZljpU60ABWJoPYqDckgGQ2CaxLeVI/slide-6.jpg"/>
          <p:cNvPicPr/>
          <p:nvPr/>
        </p:nvPicPr>
        <p:blipFill>
          <a:blip r:embed="rId1"/>
          <a:stretch/>
        </p:blipFill>
        <p:spPr>
          <a:xfrm>
            <a:off x="785880" y="1071720"/>
            <a:ext cx="80010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Содержимое 3" descr="https://cf2.ppt-online.org/files2/slide/b/b8O1tKrvX59iZljpU60ABWJoPYqDckgGQ2CaxLeVI/slide-8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07136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ВИЧ- инфекции у сотрудников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01" name="Содержимое 3" descr="https://im0-tub-by.yandex.net/i?id=84bbde37607d98541245accc167a310a-l&amp;n=13"/>
          <p:cNvPicPr/>
          <p:nvPr/>
        </p:nvPicPr>
        <p:blipFill>
          <a:blip r:embed="rId1"/>
          <a:stretch/>
        </p:blipFill>
        <p:spPr>
          <a:xfrm>
            <a:off x="0" y="2276640"/>
            <a:ext cx="3214800" cy="360036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5"/>
          <p:cNvSpPr/>
          <p:nvPr/>
        </p:nvSpPr>
        <p:spPr>
          <a:xfrm>
            <a:off x="2786040" y="2214720"/>
            <a:ext cx="38577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явлении информации о ВИЧ инфекции у сотрудни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 медицинскую          справку о диагноз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льнять, переводить на другие должности  из-за           наличия ВИЧ-  инфек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лашать информацию о диагноз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6"/>
          <p:cNvSpPr/>
          <p:nvPr/>
        </p:nvSpPr>
        <p:spPr>
          <a:xfrm>
            <a:off x="7000920" y="32446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ЛЬЗ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914400" y="149976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ные ограничения прав лиц, живущих с ВИЧ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357280" y="2276280"/>
            <a:ext cx="6500880" cy="3600360"/>
          </a:xfrm>
          <a:prstGeom prst="rect">
            <a:avLst/>
          </a:prstGeom>
          <a:noFill/>
          <a:ln w="0">
            <a:noFill/>
          </a:ln>
        </p:spPr>
        <p:txBody>
          <a:bodyPr lIns="396000" rIns="90000" tIns="46800" bIns="46800" anchor="t">
            <a:normAutofit fontScale="99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нятие должностей, отдельных профессий,             производств, учреждений и организаций,       перечень которых утвержден Правительством РБ.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Обязательное тестирование на ВИЧ перед    приемом на работу: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которые категории медицинских             работников,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жащие силовых структу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06" name="Picture 7" descr="https://voronezh.asout.ru/wp-content/uploads/2017/07/ui-58c79a679934f2.05882247.jpeg"/>
          <p:cNvPicPr/>
          <p:nvPr/>
        </p:nvPicPr>
        <p:blipFill>
          <a:blip r:embed="rId1"/>
          <a:stretch/>
        </p:blipFill>
        <p:spPr>
          <a:xfrm>
            <a:off x="285840" y="2143080"/>
            <a:ext cx="2214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риминация в трудовой деятельност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08" name="Рисунок 3" descr="https://im0-tub-by.yandex.net/i?id=eafe3e0732851a1de15fc49ecdc171cd-l&amp;n=13"/>
          <p:cNvPicPr/>
          <p:nvPr/>
        </p:nvPicPr>
        <p:blipFill>
          <a:blip r:embed="rId1"/>
          <a:stretch/>
        </p:blipFill>
        <p:spPr>
          <a:xfrm>
            <a:off x="285840" y="227664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5"/>
          <p:cNvSpPr/>
          <p:nvPr/>
        </p:nvSpPr>
        <p:spPr>
          <a:xfrm>
            <a:off x="3857760" y="2828880"/>
            <a:ext cx="50720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льнение с работ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сновательный отказ в прием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боту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е требование прохождения теста на ВИ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права на труд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https://im0-tub-by.yandex.net/i?id=af2dfe8e768a7654b19d7e303494e7f0-l&amp;n=13"/>
          <p:cNvPicPr/>
          <p:nvPr/>
        </p:nvPicPr>
        <p:blipFill>
          <a:blip r:embed="rId1"/>
          <a:stretch/>
        </p:blipFill>
        <p:spPr>
          <a:xfrm>
            <a:off x="142920" y="1714680"/>
            <a:ext cx="2143080" cy="416232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5"/>
          <p:cNvSpPr/>
          <p:nvPr/>
        </p:nvSpPr>
        <p:spPr>
          <a:xfrm>
            <a:off x="2286000" y="1428840"/>
            <a:ext cx="62866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ИЧ-инфекции у взрослого  не может служить основанием для отказа в приеме его в учреждение учреждения среднего специального или высшего образования, а также дополнительного образования взрослы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законодательством Республики Беларусь запрещена дискриминация людей, живущих с ВИЧ, при реализации их права на труд. Правительством страны определяется перечень специальностей (профессий), по которым не допускается использование труда лиц, имеющих вирус иммунодефицита человека исходя из соображений инфекционной безопасности. В остальных случаях ограничения не должны иметь ме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Законе о здравоохранении Республики Беларусь (от 18 июня 1993 г. № 2435-XII) определено, что никто не может быть подвергнут принудительному медицинскому осмотру, обследованию, амбулаторному или стационарному лечению, за исключением случаев, специально оговоренных действующим законодательств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дицинских справках лиц, поступающих на обучение или на работу не должны указываться сведения о наличии или отсутствии ВИЧ-инфекции. Таким образом, руководители предприятий не имеют права требовать у поступающих на работу, работников прохождения тестирования на ВИЧ, принуждать их иным способом к объявлению своего ВИЧ-статуса или ВИЧ-статуса своих близки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еские медицинские осмотры (диспансеризация)  работников не должны включать обязательного обследования на ВИЧ, которое по закону может проводиться только добровольно, по желанию обследуемого и с его согласия, за исключением особых случаев, специально оговоренных в законодатель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Содержимое 3" descr="https://cf2.ppt-online.org/files2/slide/b/b8O1tKrvX59iZljpU60ABWJoPYqDckgGQ2CaxLeVI/slide-9.jpg"/>
          <p:cNvPicPr/>
          <p:nvPr/>
        </p:nvPicPr>
        <p:blipFill>
          <a:blip r:embed="rId1"/>
          <a:stretch/>
        </p:blipFill>
        <p:spPr>
          <a:xfrm>
            <a:off x="2643120" y="1428840"/>
            <a:ext cx="6143760" cy="4448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https://im0-tub-by.yandex.net/i?id=d271931c6398efbc1a87ca423f4e7494-l&amp;n=13"/>
          <p:cNvPicPr/>
          <p:nvPr/>
        </p:nvPicPr>
        <p:blipFill>
          <a:blip r:embed="rId2"/>
          <a:stretch/>
        </p:blipFill>
        <p:spPr>
          <a:xfrm>
            <a:off x="0" y="1500120"/>
            <a:ext cx="285768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одержимое 3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72151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1T16:35:38Z</dcterms:created>
  <dc:creator>Registered User</dc:creator>
  <dc:description/>
  <dc:language>en-US</dc:language>
  <cp:lastModifiedBy>User</cp:lastModifiedBy>
  <dcterms:modified xsi:type="dcterms:W3CDTF">2019-11-13T07:49:33Z</dcterms:modified>
  <cp:revision>32</cp:revision>
  <dc:subject/>
  <dc:title>PowerPoint Presentation</dc:title>
</cp:coreProperties>
</file>